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A96-F8AF-4F18-98FB-427376E3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116-EEBF-4FCA-9F9A-368DD99D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DAD-A777-4E1B-BD7F-01129B84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176-E858-47D0-B101-9DB5AC67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B110-11B2-4A2D-B77A-408F9FE8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7E0B-E654-4C98-89A8-65547EA0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6DA5-BBA1-45FD-96CA-19EFED7A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B3E3-2345-4865-B707-65B16B31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168E-FC24-4FFD-9F31-CD489A82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DC1-578F-4ABA-AA69-196360BA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93A9-68CC-4514-B7A4-78B28B66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D35-799B-4735-BEA7-2C67429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8098-62A1-42D5-B9DB-9AE4E662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0C72-5B49-4177-B502-95891316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0576-43FE-4053-9A01-3742D1F1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4540-35AF-46F3-AC17-0011A895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CEE0-1C57-495B-B92F-E4234CE5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899-2ED9-43F7-9FFD-F649BFDB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CB6-7776-45C1-B982-5EAECE64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4E8-0314-42E4-AF68-BB08A1BA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FE2-4885-4B7E-A187-AF3B980E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B90-B3D5-4A30-8535-DAA8531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5D4-37FA-4F87-AF03-8A1E94E6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7BC-3A7F-4517-827A-94CEA73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86B7-2F5A-410D-831F-F5C8F0A14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8EA8-B453-482F-B2B4-AB9A7CE3F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lack   Widow  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irsten Mi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54348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HEY  YOU…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o  you want to come look at the black widow spider?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476244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4048200"/>
            <a:ext cx="381024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NING!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 Black  Widow  spider  can  cause de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7840" y="2590920"/>
            <a:ext cx="428616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Black Widow Spider"/>
          <p:cNvPicPr/>
          <p:nvPr/>
        </p:nvPicPr>
        <p:blipFill>
          <a:blip r:embed="rId2"/>
          <a:stretch/>
        </p:blipFill>
        <p:spPr>
          <a:xfrm>
            <a:off x="1066680" y="2895480"/>
            <a:ext cx="381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d you k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3313080"/>
            <a:ext cx="80074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Black Widow spider  bites you it gets poison in you and cause death.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86200" y="44956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is is how long ago the  black widows lived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 spider  lived   300  million years  a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4000680" cy="2400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34858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ir  are   spiders  all  arou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86080" y="21430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12:58Z</dcterms:modified>
  <cp:revision>9</cp:revision>
  <dc:subject/>
  <dc:title>Animal Name</dc:title>
</cp:coreProperties>
</file>